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7B19F-05CD-4171-A3FB-6B3125D6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9D2DA-18FD-4AF8-93E1-FD27BCC85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7DF7-BA3F-4BE0-850C-05835AFC1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FFDF-9420-41C5-82EB-8BD2DDA66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3792-6C81-4AE8-8C1F-8162ABD56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EC5B-CD72-42C5-BFEA-403B9B474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D197-3BF2-4687-9D81-A413EDE57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8E67-3F48-4291-9B5D-A86975FA2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24F9-B1E1-457A-AAA6-B2747B5E8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6683-D675-43D0-86BC-84BF8AA5C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764E-BA22-4C43-8133-CDD92BA25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7363-C139-453A-BC88-28E1A2D2B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84C3-4B34-4912-AA97-9B833F304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83DE-395F-440E-9546-B043E423A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E30F09-FD27-41C0-A18E-2ADCD333E31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dia Ud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adia Udd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Ver fotos de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Enviar mensaje a Sadia Uddi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Golpea a Sadia Udd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1143000"/>
            <a:ext cx="838080" cy="2156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581280"/>
            <a:ext cx="1600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Mi nombre es Sadia Uddin. Yo tengo catorce años y vivo en New York. Yo soy joven y amo Uno Dirección y música. Yo soy tímida pero divertida. Yo soy encantadora y entusiástic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 no antipática.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 estoy activa y no triste.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29312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886200"/>
            <a:ext cx="3886200" cy="60948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       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emos que ir a en las 12 horas. Son las doce de la tarde cuando lo empiez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 tienes a comer tu popcorn. Quiero comer mucha chocolates. Nosotras est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v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 gueta: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Commentario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 10 seconds ago.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cembre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  <a:ea typeface="ＭＳ Ｐゴシック"/>
              </a:rPr>
              <a:t> 5, de 2012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200400"/>
            <a:ext cx="3886200" cy="60948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Noure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uenos dias, Sadia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í, ¿a qué hora? Usted necesita su dinero y y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sesita mis dineros. Podemos ir compra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mbié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:   30 minutes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438280"/>
            <a:ext cx="3886200" cy="68580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uenas tard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Noureen! ¿Puedes ir al cine? La cine están al final d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loque.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Te guesta : Commentario:      1 hour ago.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cembre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5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4572000"/>
            <a:ext cx="3886200" cy="53352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oureen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ios, Te veré ha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 12  minutes ago   Dicembre 6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181480"/>
            <a:ext cx="3886200" cy="68580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              Sa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la dio una hoja y él dio una hoja también. Sus tarea es fácil y ell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ga es divertida. Nosotras somos buena estudiantes. Haces su tarea tambié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e guesta:     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  1 minute ago       Dicembre 6, de 2012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943600"/>
            <a:ext cx="3886200" cy="685800"/>
          </a:xfrm>
          <a:prstGeom prst="rect">
            <a:avLst/>
          </a:prstGeom>
          <a:solidFill>
            <a:srgbClr val="d9dce7"/>
          </a:solidFill>
          <a:ln cap="sq"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Mahfoo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á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" sz="700" spc="-1" strike="noStrike">
                <a:solidFill>
                  <a:srgbClr val="343434"/>
                </a:solidFill>
                <a:latin typeface="Arial"/>
              </a:rPr>
              <a:t>Te guesta: Commentario 5 sceonds ago       Dicembre 7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! ¿Cómo estás usted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520" y="5715000"/>
            <a:ext cx="44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60199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5800" y="53341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371600" y="5334120"/>
            <a:ext cx="601560" cy="401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057400" y="32767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320" y="5334120"/>
            <a:ext cx="533160" cy="399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133720" y="6095880"/>
            <a:ext cx="601560" cy="401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057400" y="4648320"/>
            <a:ext cx="609480" cy="407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-457200" y="414360"/>
            <a:ext cx="2819520" cy="188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981080" y="243828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1981080" y="3886200"/>
            <a:ext cx="914400" cy="61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1981080" y="5334120"/>
            <a:ext cx="914400" cy="61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6:25Z</dcterms:created>
  <dc:creator>FriscoISD</dc:creator>
  <dc:description/>
  <dc:language>en-US</dc:language>
  <cp:lastModifiedBy>NYCDOE</cp:lastModifiedBy>
  <dcterms:modified xsi:type="dcterms:W3CDTF">2012-12-07T14:06:27Z</dcterms:modified>
  <cp:revision>117</cp:revision>
  <dc:subject/>
  <dc:title>Profile</dc:title>
</cp:coreProperties>
</file>